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EEF-3AA8-4821-9645-F2390DD12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C128-75DD-4197-8204-63298B9C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CFE-D101-42B4-BFBA-B15EBEB3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56CC-AB90-4629-8BB0-5BA5D89E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9347-4F02-4D5E-A176-A33006ED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2C0-B056-43E1-9CDA-537F5954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878F-DE6C-497B-B146-711E8554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902-3B6C-4ECA-9635-1E305885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B5CB-C14F-440A-8BF7-D9B7E139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93AF-D215-49DA-902F-145CF32F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CACE-E94A-4F11-BBC2-34B47185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EB0-93C8-4508-83D8-7C2360DA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3E0A-F52F-474F-A36B-803A39BB3D84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2. Június 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3898800" y="425520"/>
            <a:ext cx="1344600" cy="1295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1480" y="4761000"/>
            <a:ext cx="8137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Az Országos Tudományos Diákköri Konferencián, valamint tudományos műhelyein való részvétel és a lebonyolítási fel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ellátása”című NTP-HHTDK-21-0042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1236600" y="439560"/>
            <a:ext cx="1535040" cy="828720"/>
          </a:xfrm>
          <a:prstGeom prst="rect">
            <a:avLst/>
          </a:prstGeom>
          <a:ln w="0">
            <a:noFill/>
          </a:ln>
        </p:spPr>
      </p:pic>
      <p:pic>
        <p:nvPicPr>
          <p:cNvPr id="47" name="Kép 10" descr="http://www.emet.gov.hu/_userfiles/hirek/NTP/ntp_72_rgb.jpg"/>
          <p:cNvPicPr/>
          <p:nvPr/>
        </p:nvPicPr>
        <p:blipFill>
          <a:blip r:embed="rId3"/>
          <a:stretch/>
        </p:blipFill>
        <p:spPr>
          <a:xfrm>
            <a:off x="74772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Kép 11" descr="http://www.emet.gov.hu/_userfiles/hatter_1/emet_logok/%C3%BAj%20logo/emet_logo_szines.jpg"/>
          <p:cNvPicPr/>
          <p:nvPr/>
        </p:nvPicPr>
        <p:blipFill>
          <a:blip r:embed="rId4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Kép 10" descr=""/>
          <p:cNvPicPr/>
          <p:nvPr/>
        </p:nvPicPr>
        <p:blipFill>
          <a:blip r:embed="rId5"/>
          <a:stretch/>
        </p:blipFill>
        <p:spPr>
          <a:xfrm>
            <a:off x="6567480" y="490680"/>
            <a:ext cx="1533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2-05-31T07:35:05Z</dcterms:modified>
  <cp:revision>13</cp:revision>
  <dc:subject/>
  <dc:title>DUNÁNTÚLI MANDULAFA</dc:title>
</cp:coreProperties>
</file>